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25A-8DBF-438E-B948-35951673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B7B-402D-4791-BD6F-7F64512D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E4C-6995-40DF-91DD-E707F8F0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004-07EF-4FB8-AF1D-5677CEF0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26A4-CFF4-4C3E-A68D-898F6238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80CC-18C8-468F-8BA9-089DCBF0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A4EF-CE3C-4ABA-A06C-D1B44C07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9DBB-37BF-4E5A-8878-C48FCF3A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C1B-6EA9-43E2-8DB0-1E230F70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F347-5A96-45FB-AA36-5B546203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C1AF-2E1E-4052-BE68-D8223188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91A-8169-4BE9-9080-5DFDE022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355C-64C7-45EE-B084-F80CE833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BC00-0B39-4A9B-A2EC-7C68BDAF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31C4-2280-4E40-9124-C6B01D9E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684-1A5A-4CDA-B404-286267AE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4CBF-4FA2-47A0-A7D5-282669DF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13E-9334-4CA0-910D-99B76E5B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50B-8C0D-444D-837B-6A0762D8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240-FB2D-468A-B35D-D1D50EFD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576-911F-4D50-86D9-7266248D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2D4-B7ED-4A5B-805B-8CE7645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C4D-A299-4F56-BA83-435A741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F21-86AC-499A-8A06-05D39A4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56B0-2213-4900-B04A-49D33A950F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4FB8-353E-4D4D-993D-A73264948C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llution Control Standards Committee Repor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914400" y="45720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C Consider Recommendation to Commission on Adoption of Proposed Revisions to 2012 Standard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roposed Revisions to 2012 Pollution Control Standard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nsion of the prohibition on mixing zones from October 16, 2013 to October 16, 2015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se Axiall (PPG) variance from the prohibition to reflect the new effective date of the prohibi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blic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noticed the proposed revisions, hearing, and public comment period in early July, more than 30 days prior to the hear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nt out ~10,000 email notifications, 600 postcards to discharges, web site notification &amp; press relea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d 2 webinars &amp; hear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nt period remained open an additional 30 day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067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needs to be accomplished in the 2-year interim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ntified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inued work on streamlined variance proced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/evaluation of total mercury criter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luation of appropriateness of mixing zone prohibition for BCCs for Ohio Riv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sure that all discharges have been placed on notice of new effective date &amp; that it applies to all specified BCCs, not just mercur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EC Actions Need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recommendation to Commission on proposed revisions to 2012 standa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additional activities needed in the two-year interim peri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20:15:52Z</dcterms:created>
  <dc:creator>peter</dc:creator>
  <dc:description/>
  <dc:language>en-US</dc:language>
  <cp:lastModifiedBy>jklear</cp:lastModifiedBy>
  <dcterms:modified xsi:type="dcterms:W3CDTF">2013-10-15T15:10:49Z</dcterms:modified>
  <cp:revision>377</cp:revision>
  <dc:subject/>
  <dc:title>ORSANCO Pollution Control Standards</dc:title>
</cp:coreProperties>
</file>